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908800" cy="9410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908400" cy="9410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2"/>
          </p:nvPr>
        </p:nvSpPr>
        <p:spPr>
          <a:xfrm>
            <a:off x="3914280" y="-36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03400" y="705960"/>
            <a:ext cx="4703760" cy="352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Click to move the slide</a:t>
            </a:r>
            <a:endParaRPr b="0" lang="en-US" sz="4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920520" y="4468320"/>
            <a:ext cx="5067000" cy="423396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ftr" idx="3"/>
          </p:nvPr>
        </p:nvSpPr>
        <p:spPr>
          <a:xfrm>
            <a:off x="-360" y="893880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sldNum" idx="4"/>
          </p:nvPr>
        </p:nvSpPr>
        <p:spPr>
          <a:xfrm>
            <a:off x="3914280" y="893880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9C92680F-B49F-4645-BFA3-7E945AC7AF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914280" y="893880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490506B6-679F-4928-8BDF-86B72C60F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-360" y="893880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-360" y="-36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3914280" y="-36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body"/>
          </p:nvPr>
        </p:nvSpPr>
        <p:spPr>
          <a:xfrm>
            <a:off x="920520" y="4468320"/>
            <a:ext cx="50670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ldImg"/>
          </p:nvPr>
        </p:nvSpPr>
        <p:spPr>
          <a:xfrm>
            <a:off x="1103400" y="706320"/>
            <a:ext cx="4703760" cy="352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3914280" y="893880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824F2D5B-DD70-4A0B-9017-1CB8157456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-360" y="893880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-360" y="-36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3914280" y="-36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body"/>
          </p:nvPr>
        </p:nvSpPr>
        <p:spPr>
          <a:xfrm>
            <a:off x="920520" y="4468320"/>
            <a:ext cx="50670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Img"/>
          </p:nvPr>
        </p:nvSpPr>
        <p:spPr>
          <a:xfrm>
            <a:off x="1103400" y="706320"/>
            <a:ext cx="4703760" cy="352764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3914280" y="893880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FE599299-EA1E-4923-A148-10FFEFB46D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-360" y="893880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-360" y="-36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914280" y="-360"/>
            <a:ext cx="2994120" cy="46980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body"/>
          </p:nvPr>
        </p:nvSpPr>
        <p:spPr>
          <a:xfrm>
            <a:off x="920520" y="4468320"/>
            <a:ext cx="5067000" cy="42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sldImg"/>
          </p:nvPr>
        </p:nvSpPr>
        <p:spPr>
          <a:xfrm>
            <a:off x="1103400" y="706320"/>
            <a:ext cx="4703760" cy="3527640"/>
          </a:xfrm>
          <a:prstGeom prst="rect">
            <a:avLst/>
          </a:prstGeom>
          <a:ln w="0">
            <a:noFill/>
          </a:ln>
        </p:spPr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CEC733-D0D9-4D96-8EC6-7A75D061F9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914040" y="419076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95BAB-B394-476B-AB95-474898CF91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7972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456BFD-FA78-485A-BEEE-349F054B14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6464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560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91404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6464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560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DD8316-0676-4DD2-A7E7-DD3D66D1F67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676520" y="471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97FC23-9EB1-4ECB-91FB-C8A3F0BD6D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7972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914040" y="419076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7972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46464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15600" y="152388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91404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46464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15600" y="4190760"/>
            <a:ext cx="242892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05B52-8BB3-4E61-9E90-A075C183FC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7AC6C2-E4DC-43F1-82AF-4DB39B000FE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2D2F38-B276-4D6E-B946-5910E994D1E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76520" y="47160"/>
            <a:ext cx="72388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42FE27-C5F5-4FFB-B8AB-401EEFBA813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D9FB22-96A4-4D45-8E72-25F4345E8C9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79720" y="419076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838E6-E4C2-418A-BA4A-3CFE1F3865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79720" y="1523880"/>
            <a:ext cx="368136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14040" y="4190760"/>
            <a:ext cx="7543800" cy="24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D047B4-1EAC-40E0-9BB9-74C24BAB454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0" b="204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343400" y="6629040"/>
            <a:ext cx="12952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336699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0FEAE-00EC-4BE9-B529-80FB27A320E3}" type="slidenum">
              <a:rPr b="0" lang="en-US" sz="900" spc="-1" strike="noStrike">
                <a:solidFill>
                  <a:srgbClr val="336699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457200" y="6637320"/>
            <a:ext cx="2057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© 2003 Mercury Computer Systems, Inc.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5440" cy="6859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980720" y="2514240"/>
            <a:ext cx="678204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Click to edit the title text format</a:t>
            </a:r>
            <a:endParaRPr b="0" lang="en-US" sz="4800" spc="-1" strike="noStrike">
              <a:solidFill>
                <a:srgbClr val="003366"/>
              </a:solidFill>
              <a:latin typeface="Arial Black"/>
            </a:endParaRPr>
          </a:p>
        </p:txBody>
      </p:sp>
      <p:sp>
        <p:nvSpPr>
          <p:cNvPr id="43" name=""/>
          <p:cNvSpPr/>
          <p:nvPr/>
        </p:nvSpPr>
        <p:spPr>
          <a:xfrm>
            <a:off x="7114320" y="6643800"/>
            <a:ext cx="20307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6699"/>
                </a:solidFill>
                <a:latin typeface="Arial"/>
              </a:rPr>
              <a:t>© 2003 Mercury Computer Systems, Inc.</a:t>
            </a:r>
            <a:endParaRPr b="0" lang="en-US" sz="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66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336699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6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133720" y="2057040"/>
            <a:ext cx="6781680" cy="16765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3366"/>
                </a:solidFill>
                <a:latin typeface="Arial Black"/>
              </a:rPr>
              <a:t>OMG Digital IF Specification</a:t>
            </a:r>
            <a:endParaRPr b="0" lang="en-US" sz="4800" spc="-1" strike="noStrike">
              <a:solidFill>
                <a:srgbClr val="003366"/>
              </a:solidFill>
              <a:latin typeface="Arial Black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Goals of Digital IF Effort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Standard API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Data transfer interfaces between Processing Platform and Tuner/ADC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Meta-data format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Application dependent, a common denominator needs to be determined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"/>
              </a:rPr>
              <a:t>Transfer mechanism (to be addressed at VITA/VSO)</a:t>
            </a:r>
            <a:endParaRPr b="1" lang="en-US" sz="28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66"/>
                </a:solidFill>
                <a:latin typeface="Arial"/>
              </a:rPr>
              <a:t>RapidIO, SFPDP, Aurora, [Race++], etc.</a:t>
            </a:r>
            <a:endParaRPr b="1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ransport lay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twork lay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ata link lay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hysical:  Fiber, copper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C9B0-C560-4EBB-A03B-C38927C3844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User Application Needs 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18960" y="1218960"/>
            <a:ext cx="7543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ime stamping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Tuner parameters:  Center frequency, bandwidth, AGC, sample rate, etc.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User defined field(s)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Channel identification number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acket length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Data payload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Others?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F4EF75-82C4-4009-ADA6-570F4AD43653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Interface Issues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94920" y="12952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Synchronization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Local Oscillator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ample clock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DDC units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Application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ingle board / box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hassis / rack / multi-rack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ite / multi-site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336699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Multi-platform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rotocol Overhead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Need for back channe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D3D044-3411-4EB4-8D50-9E13C84A832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600200" y="914400"/>
            <a:ext cx="716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 Black"/>
              </a:rPr>
              <a:t>Logical Characteristics</a:t>
            </a:r>
            <a:endParaRPr b="0" lang="en-US" sz="28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Tuner Interfaces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914040" y="15238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Physical protocols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FPDP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336699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Serial RapidIO</a:t>
            </a:r>
            <a:endParaRPr b="1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Error detection / FEC / ARQ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Higher level protocols / header info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Flow contro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6699"/>
                </a:solidFill>
                <a:latin typeface="Arial"/>
              </a:rPr>
              <a:t>In-band or out-of-band tuner control</a:t>
            </a:r>
            <a:endParaRPr b="1" lang="en-US" sz="32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24A5B-08D8-4227-9638-08A88F3EF8E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OMG Digital I/F Specification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295280"/>
            <a:ext cx="7543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Scop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tandard APIs for: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ata communication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ntro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ther functionality (time stamping, synchronization etc.)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3366"/>
              </a:buClr>
              <a:buFont typeface="Monotype Sort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Software Component descriptions that would realize those APIs</a:t>
            </a:r>
            <a:endParaRPr b="1" lang="en-US" sz="16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o not specify implementation detail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pecify provides/uses ports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APIs are possible to use in conjunction with SWRadio framework defined by the OMG SWRadio specification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99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99"/>
                </a:solidFill>
                <a:latin typeface="Arial"/>
              </a:rPr>
              <a:t>Closely related to “Streams for CCM” specification that would allow high-bandwidth data transfers without by-passing the CORBA middleware</a:t>
            </a:r>
            <a:endParaRPr b="1" lang="en-US" sz="20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1CCF3-913B-49AF-B61D-335A63E7EB8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47160"/>
            <a:ext cx="7238880" cy="685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rojected Timeline</a:t>
            </a:r>
            <a:endParaRPr b="1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1846440" y="1908000"/>
          <a:ext cx="5806800" cy="4803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46440" y="1908000"/>
                    <a:ext cx="5806800" cy="480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3886200" y="990720"/>
            <a:ext cx="1781280" cy="70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A89A39-AE4D-4637-B7EE-ADDD6FD75F5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2T22:00:11Z</dcterms:created>
  <dc:creator>jpoe</dc:creator>
  <dc:description/>
  <dc:language>en-US</dc:language>
  <cp:lastModifiedBy>Tansu Demirbilek</cp:lastModifiedBy>
  <cp:lastPrinted>2001-04-18T18:28:43Z</cp:lastPrinted>
  <dcterms:modified xsi:type="dcterms:W3CDTF">2004-06-22T11:51:44Z</dcterms:modified>
  <cp:revision>103</cp:revision>
  <dc:subject/>
  <dc:title>No Slide Title</dc:title>
</cp:coreProperties>
</file>